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5.png" ContentType="image/png"/>
  <Override PartName="/ppt/media/image10.png" ContentType="image/png"/>
  <Override PartName="/ppt/media/drumroll.wav" ContentType="audio/x-wav"/>
  <Override PartName="/ppt/media/applause.wav" ContentType="audio/x-wav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DF21-56CC-4FE1-884C-66D8E4F29D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ND ATOMIC STRUCTUR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  Nucleus  Proton  Neutron  Electr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OMS AND ATOMIC STRUCTUR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om  Nucleus  Proton  Neutron  Electr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AT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mallest unit of an el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sts of a central nucleus surrounded by one or more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N ATO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mallest unit of an ele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ists of a central nucleus surrounded by one or more electr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NUCLEU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ntral part of an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ed of protons and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ains most of an atom's mas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THE NUCLEU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entral part of an ato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osed of protons and neutr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ins most of an atom's mas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PROT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ly charged partic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within an atomic nucle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 PROT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ly charged particl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und within an atomic nucleu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NEUTR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charged partic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within an atomic nucle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 NEUTR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charged particl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und within an atomic nucleu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ELECTR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ly charged partic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ed in shells that surround an atom's nucle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N ELECTR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gatively charged particl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cated in shells that surround an atom's nucleu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elcome to MATTERVILLE 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elcome to MATTERVILLE 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5C87-F80F-48CE-A881-33BAE33BB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388C-A26C-42F4-B1E5-017EC909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1B69-079E-4E9D-9DE2-433A5D1D5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59E3-F736-4745-9AD1-C20FF92BD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2DA95-D2A2-436D-A82E-76EE9FC6A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D3B1-F6DD-42F5-926E-A677843F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4419-2E67-4374-B978-954FA58B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389B-C4AA-4B2A-B4D4-A68F38C8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719C-EED3-439A-84F2-A4ED5CB4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24754-CACB-4F38-86F3-5E8AB212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86E0-1861-49EC-BB1C-4AEEA8AC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A653-8B75-4AF0-A043-4C3227AF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BED6-5B7A-4CDF-9B8D-443A7A5B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DA44-E4BE-4A2D-8F28-A8877EDB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73C81-3FD8-4DE4-B3D4-2B8E7C3E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7407-5A41-478D-AD7D-DAAFEE45E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4AF6-57BB-4BAF-AD62-934825805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E918-680F-4D9E-975D-41CE365F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BD38-D09F-4E2F-97F9-2ABB73C3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50DA-5736-4138-842E-543B4673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CC1B-D647-4DF4-928D-D7372B88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DF6C-452D-43D8-85F0-B3D28E71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EAFB-436E-463F-9867-8F9D0371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5118-C3E0-4867-A3F1-A79EB68F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98FC-EB62-4504-8F28-38386CE22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1856-BD98-40D6-86DC-0EE2426D67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drumroll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ATOMS AND ATOMIC STRUCTURE</a:t>
            </a:r>
            <a:br>
              <a:rPr sz="4000"/>
            </a:br>
            <a:br>
              <a:rPr sz="9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om  Nucleus  Proton  Neutron  Electr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8" descr="atom_animation"/>
          <p:cNvPicPr/>
          <p:nvPr/>
        </p:nvPicPr>
        <p:blipFill>
          <a:blip r:embed="rId1"/>
          <a:stretch/>
        </p:blipFill>
        <p:spPr>
          <a:xfrm>
            <a:off x="2971800" y="3276720"/>
            <a:ext cx="3124080" cy="312408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HAT IS AN ATOM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828440"/>
            <a:ext cx="5410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smallest unit of an elemen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sists of a central nucleus surrounded by one or more electron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7" descr="Atom1"/>
          <p:cNvPicPr/>
          <p:nvPr/>
        </p:nvPicPr>
        <p:blipFill>
          <a:blip r:embed="rId1"/>
          <a:stretch/>
        </p:blipFill>
        <p:spPr>
          <a:xfrm>
            <a:off x="5607000" y="2057400"/>
            <a:ext cx="3344760" cy="388620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HAT IS THE NUCLEU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429000" y="1600200"/>
            <a:ext cx="5562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central part of an atom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mposed of protons and neutron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tains most of an atom's mas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7" descr="nucleus1"/>
          <p:cNvPicPr/>
          <p:nvPr/>
        </p:nvPicPr>
        <p:blipFill>
          <a:blip r:embed="rId1"/>
          <a:stretch/>
        </p:blipFill>
        <p:spPr>
          <a:xfrm>
            <a:off x="228600" y="2057400"/>
            <a:ext cx="3048120" cy="301608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HAT IS A PROTO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51814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ositively charged particl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und within an atomic nucleus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7" descr="proton1"/>
          <p:cNvPicPr/>
          <p:nvPr/>
        </p:nvPicPr>
        <p:blipFill>
          <a:blip r:embed="rId1"/>
          <a:stretch/>
        </p:blipFill>
        <p:spPr>
          <a:xfrm>
            <a:off x="6095880" y="2362320"/>
            <a:ext cx="2590920" cy="259056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HAT IS A NEUTRO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429000" y="1599840"/>
            <a:ext cx="556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ncharged particl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und within an atomic nucleu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7" descr="neutron1"/>
          <p:cNvPicPr/>
          <p:nvPr/>
        </p:nvPicPr>
        <p:blipFill>
          <a:blip r:embed="rId1"/>
          <a:stretch/>
        </p:blipFill>
        <p:spPr>
          <a:xfrm>
            <a:off x="533520" y="228600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HAT IS AN ELECTRO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029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egatively charged particl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ocated in shells that surround an atom's nucleu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7" descr="electron1"/>
          <p:cNvPicPr/>
          <p:nvPr/>
        </p:nvPicPr>
        <p:blipFill>
          <a:blip r:embed="rId1"/>
          <a:stretch/>
        </p:blipFill>
        <p:spPr>
          <a:xfrm>
            <a:off x="6019920" y="2895480"/>
            <a:ext cx="1676160" cy="167652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elcome to MATTERVILLE 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23" descr="atompicture3"/>
          <p:cNvPicPr/>
          <p:nvPr/>
        </p:nvPicPr>
        <p:blipFill>
          <a:blip r:embed="rId1"/>
          <a:stretch/>
        </p:blipFill>
        <p:spPr>
          <a:xfrm>
            <a:off x="2543040" y="593640"/>
            <a:ext cx="4057920" cy="410544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02:09:13Z</dcterms:created>
  <dc:creator>Shutty</dc:creator>
  <dc:description/>
  <dc:language>en-US</dc:language>
  <cp:lastModifiedBy>LEGION</cp:lastModifiedBy>
  <dcterms:modified xsi:type="dcterms:W3CDTF">2017-01-26T09:32:58Z</dcterms:modified>
  <cp:revision>5</cp:revision>
  <dc:subject/>
  <dc:title>Slide 1</dc:title>
</cp:coreProperties>
</file>